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1E5-3BF2-4570-9015-64A114EF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852-3CEB-4BA3-8EEB-94F92165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B7F-E09D-4B49-8877-F2F23FA6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5A9-C6A4-401A-9777-3208B3EE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8940-C72F-43FA-A25E-4B19FA36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3C5-A0CC-444F-9FA1-15B9DFF8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366-F329-4608-9C1A-E3F1346B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2435-D7C3-4403-99D3-10323E5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7191-1536-4768-B102-DE449BD4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21F8-0E28-478F-9323-8CB70E99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A615-41EF-4234-B4F1-A000234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83B-9C0C-4972-B4D1-E9D0FE3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5988-AE2B-44B7-A91A-39D11FC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129-7D14-49AF-9451-5C7AB4D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68F-27B4-43B8-9CE4-01352F89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9FF1-7642-44F3-80E2-5A12E06A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EB5-F7CD-4F6E-99A0-17B13ECF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10A7-4D6E-47E2-9340-3382D3B3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7943-0DED-4885-8589-D7FFEAD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FEDC-6682-41F8-BDAB-7814C89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1483-9054-4620-A877-9FAC18F5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01B9-C2F8-4ACC-B99D-0D012D75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506-BA90-4AF8-9CE3-16DE0D5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4DBF-FC3A-4D72-B60A-6E090CA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DB78-DA78-48AC-996D-70295563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96A1-1DAD-4839-8694-B6A7702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4B0F-993D-4430-B3B3-61F825B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5E5C-D23A-4DC3-A492-0E91BEA5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B9AB-2945-45C8-9176-3462D51B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446F-729C-40CA-81E1-718CE0A6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1F2F-320D-4F54-A755-9FB9BE4E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5EB2-129B-4075-9EA4-0ADEAE19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E951-1505-444B-BA80-969240B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A12-D8B3-4386-92B4-92742A6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D1AE-EEF7-4C7A-B859-900EB14B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C2AC-3142-4980-AAE9-60A3EBBC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CF69-8632-42ED-8E02-92EB839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3484-CADF-453D-A5BC-5184AD6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5CB0-A4F1-47DB-8BF0-6D50E8C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D9EA-2D52-4AAB-9C49-9FF33BD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003E-9647-46A5-9D7E-D63E0852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0779-4445-44F4-9B9E-8E9D3F8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04CC-F875-496C-8682-B5FAE6F2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F5431-FF5B-4F9E-93C9-7A6EB6F4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856-5628-4D5B-9A72-692162DD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0367C-6A11-4C34-B3A7-D6BCC8E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AAE1-6EA7-4F34-9950-058A559F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11FA7-FE04-4F53-B7B7-BB0AC78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A22D-40C0-4E97-8918-2B6E1B8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3E29-8562-4BCE-A5BA-F4D69ED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BBCD-CC4D-4D74-B6FA-771AB0F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A7DD-3B8D-4FCF-8789-B90D7AF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E88D-DBE8-4A4C-BE02-6F422F94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0E57-1D86-4281-B06B-6C4947B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917F-2676-46B0-BAB0-DC2871C4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8C6-D24E-40D2-97BD-5433124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D753-6DE2-41DA-9E42-B7E21E41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41F-253D-44D3-A94A-879136E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027-539E-4DDB-8C7D-31E8457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922-E237-44B8-9FA7-14D7E16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D9F5-24F4-4DCC-96E3-F00BCFDE3F1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D79-F1F1-42E5-BD41-345758059D5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53C3-75C5-4D65-968A-A2F902FA6B1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B02-6569-4662-AB51-B16098B430C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992-BB38-4F9B-A073-180FEC37F5E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 урока развития речи 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Письмо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2876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ья средняя общеобразовательная школа №19  г.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1714680" y="56437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орович Алё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5"/>
          <p:cNvSpPr/>
          <p:nvPr/>
        </p:nvSpPr>
        <p:spPr>
          <a:xfrm>
            <a:off x="250920" y="2060640"/>
            <a:ext cx="2592360" cy="11523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3214800" y="2071800"/>
            <a:ext cx="2592360" cy="11523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285840" y="4429080"/>
            <a:ext cx="2592360" cy="1152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3286080" y="4429080"/>
            <a:ext cx="2592360" cy="1152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6215040" y="4429080"/>
            <a:ext cx="2592360" cy="1152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мож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2857680" y="264312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 flipH="1">
            <a:off x="1499760" y="3286080"/>
            <a:ext cx="3000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928960" y="500076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5857920" y="500076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5924520" y="1920960"/>
            <a:ext cx="2938320" cy="22971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5"/>
          <p:cNvSpPr/>
          <p:nvPr/>
        </p:nvSpPr>
        <p:spPr>
          <a:xfrm>
            <a:off x="357120" y="285840"/>
            <a:ext cx="8429760" cy="114300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, из которых состо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любого 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5712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 и (или) обраще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мя того, кому предназначено письмо.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лая мама! Моя родная, мамочка; милая мама; моя славная труженица!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винение, вопросы, отражающие интерес к жизни адресата, любезности в его адрес, пожела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ложение информации, интересующей адреса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ражение уважения, любви, преданности, формулы проща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. Дата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357120" y="214200"/>
            <a:ext cx="8429760" cy="78588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640" y="142884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т, -а, м – Тот, кто получает извещения, телеграммы, письм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С.И.Ожег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т, а, м., одуш. [нем. Adressat]. Лицо, получающее почтовое или телеграфное отправление, получа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нт, а, м., одуш. [нем. Adressant]. Лицо, посылающее почтовое или телеграфное отправление, отправител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Иностранных слов Крыс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57120" y="285840"/>
            <a:ext cx="8429760" cy="8571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о-лекс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0" descr="Картинки по запросу конверты"/>
          <p:cNvPicPr/>
          <p:nvPr/>
        </p:nvPicPr>
        <p:blipFill>
          <a:blip r:embed="rId1"/>
          <a:stretch/>
        </p:blipFill>
        <p:spPr>
          <a:xfrm>
            <a:off x="0" y="1785960"/>
            <a:ext cx="9150480" cy="47862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649440" y="1928880"/>
            <a:ext cx="4286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ванова И.И.                                    Ставропольский край, Советский р-н, г.Зеленокумск, пер.Партизанский, 3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792680" y="3786120"/>
            <a:ext cx="3673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5 «В» классу                          МБОУ КСОШ№19 г.Пятигорска г.Пятигорск, пгт.Горячеводский, ул.Ленина, 25, каб.1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357800" y="5500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57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86000" y="2786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57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0"/>
          <p:cNvSpPr/>
          <p:nvPr/>
        </p:nvSpPr>
        <p:spPr>
          <a:xfrm>
            <a:off x="428760" y="428760"/>
            <a:ext cx="8286480" cy="85716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2"/>
          <p:cNvSpPr/>
          <p:nvPr/>
        </p:nvSpPr>
        <p:spPr>
          <a:xfrm>
            <a:off x="571680" y="42876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аполнения конв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285840" y="5500800"/>
            <a:ext cx="2724120" cy="79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01040" cy="28573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исьмо другу, учителю, любимому литературному герою, фантастическому существу….  Главное, чтобы при написании письма вы учитывали всё то, что узнали на уроке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8" name="Picture 5" descr="http://rus.1september.ru/2005/03/9.gif"/>
          <p:cNvPicPr/>
          <p:nvPr/>
        </p:nvPicPr>
        <p:blipFill>
          <a:blip r:embed="rId1"/>
          <a:stretch/>
        </p:blipFill>
        <p:spPr>
          <a:xfrm>
            <a:off x="2266920" y="3144960"/>
            <a:ext cx="4475160" cy="354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0" y="2552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7120" y="214200"/>
            <a:ext cx="8429760" cy="78588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14280" y="1143000"/>
            <a:ext cx="640080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4608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1500120" y="50004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428760" y="15220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5 класс. Учебник для обще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Т. Баранов, Т.А. Ладыженская, -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усский язык 5 класс Поурочные планы по учебнику М.Т. Баранов, Т.А. Ладыженская.  Издательство «Учитель» Волгоград 200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горова Н.В. Поурочные разработки по русскому языку. 5 класс. - 2-е изд., перераб. - М.: ВАКО, 2014. - 41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Журнал «Русский язык в школ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00080" y="1965600"/>
            <a:ext cx="692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и особенностями эпистолярного жанра, формировать навыки написания 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Овал 4"/>
          <p:cNvSpPr/>
          <p:nvPr/>
        </p:nvSpPr>
        <p:spPr>
          <a:xfrm>
            <a:off x="3286080" y="2786040"/>
            <a:ext cx="2786040" cy="1071720"/>
          </a:xfrm>
          <a:prstGeom prst="ellipse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214200" y="400068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214200" y="314316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214200" y="2214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ьб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642960" y="135720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5143680" y="500040"/>
            <a:ext cx="292860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6000840" y="2214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6000840" y="314316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2"/>
          <p:cNvSpPr/>
          <p:nvPr/>
        </p:nvSpPr>
        <p:spPr>
          <a:xfrm>
            <a:off x="6000840" y="400068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в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1357200" y="578628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5357880" y="492912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1285920" y="50004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6"/>
          <p:cNvSpPr/>
          <p:nvPr/>
        </p:nvSpPr>
        <p:spPr>
          <a:xfrm>
            <a:off x="714240" y="492912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р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ая со стрелкой 29" descr=""/>
          <p:cNvPicPr/>
          <p:nvPr/>
        </p:nvPicPr>
        <p:blipFill>
          <a:blip r:embed="rId1"/>
          <a:stretch/>
        </p:blipFill>
        <p:spPr>
          <a:xfrm>
            <a:off x="3687840" y="969840"/>
            <a:ext cx="981000" cy="175428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ая со стрелкой 31" descr=""/>
          <p:cNvPicPr/>
          <p:nvPr/>
        </p:nvPicPr>
        <p:blipFill>
          <a:blip r:embed="rId2"/>
          <a:stretch/>
        </p:blipFill>
        <p:spPr>
          <a:xfrm>
            <a:off x="3541680" y="4200480"/>
            <a:ext cx="1054080" cy="17557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ая со стрелкой 33" descr=""/>
          <p:cNvPicPr/>
          <p:nvPr/>
        </p:nvPicPr>
        <p:blipFill>
          <a:blip r:embed="rId3"/>
          <a:stretch/>
        </p:blipFill>
        <p:spPr>
          <a:xfrm>
            <a:off x="4986360" y="4121280"/>
            <a:ext cx="1542960" cy="9810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ая со стрелкой 35" descr=""/>
          <p:cNvPicPr/>
          <p:nvPr/>
        </p:nvPicPr>
        <p:blipFill>
          <a:blip r:embed="rId4"/>
          <a:stretch/>
        </p:blipFill>
        <p:spPr>
          <a:xfrm>
            <a:off x="5705640" y="3687840"/>
            <a:ext cx="1109520" cy="4824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ая со стрелкой 38" descr=""/>
          <p:cNvPicPr/>
          <p:nvPr/>
        </p:nvPicPr>
        <p:blipFill>
          <a:blip r:embed="rId5"/>
          <a:stretch/>
        </p:blipFill>
        <p:spPr>
          <a:xfrm>
            <a:off x="5778360" y="3267000"/>
            <a:ext cx="390600" cy="3351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ая со стрелкой 40" descr=""/>
          <p:cNvPicPr/>
          <p:nvPr/>
        </p:nvPicPr>
        <p:blipFill>
          <a:blip r:embed="rId6"/>
          <a:stretch/>
        </p:blipFill>
        <p:spPr>
          <a:xfrm>
            <a:off x="2975040" y="3260880"/>
            <a:ext cx="390600" cy="3412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ая со стрелкой 43" descr=""/>
          <p:cNvPicPr/>
          <p:nvPr/>
        </p:nvPicPr>
        <p:blipFill>
          <a:blip r:embed="rId7"/>
          <a:stretch/>
        </p:blipFill>
        <p:spPr>
          <a:xfrm>
            <a:off x="2614680" y="4121280"/>
            <a:ext cx="1542960" cy="981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ая со стрелкой 45" descr=""/>
          <p:cNvPicPr/>
          <p:nvPr/>
        </p:nvPicPr>
        <p:blipFill>
          <a:blip r:embed="rId8"/>
          <a:stretch/>
        </p:blipFill>
        <p:spPr>
          <a:xfrm>
            <a:off x="2255760" y="3687840"/>
            <a:ext cx="1182600" cy="4824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 стрелкой 47" descr=""/>
          <p:cNvPicPr/>
          <p:nvPr/>
        </p:nvPicPr>
        <p:blipFill>
          <a:blip r:embed="rId9"/>
          <a:stretch/>
        </p:blipFill>
        <p:spPr>
          <a:xfrm>
            <a:off x="2975040" y="2328840"/>
            <a:ext cx="968400" cy="5475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ая со стрелкой 49" descr=""/>
          <p:cNvPicPr/>
          <p:nvPr/>
        </p:nvPicPr>
        <p:blipFill>
          <a:blip r:embed="rId10"/>
          <a:stretch/>
        </p:blipFill>
        <p:spPr>
          <a:xfrm>
            <a:off x="5413320" y="2328840"/>
            <a:ext cx="755640" cy="6224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ая со стрелкой 51" descr=""/>
          <p:cNvPicPr/>
          <p:nvPr/>
        </p:nvPicPr>
        <p:blipFill>
          <a:blip r:embed="rId11"/>
          <a:stretch/>
        </p:blipFill>
        <p:spPr>
          <a:xfrm>
            <a:off x="3402000" y="1474920"/>
            <a:ext cx="907920" cy="13287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ая со стрелкой 53" descr=""/>
          <p:cNvPicPr/>
          <p:nvPr/>
        </p:nvPicPr>
        <p:blipFill>
          <a:blip r:embed="rId12"/>
          <a:stretch/>
        </p:blipFill>
        <p:spPr>
          <a:xfrm>
            <a:off x="4834080" y="969840"/>
            <a:ext cx="834840" cy="1754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0"/>
          <p:cNvSpPr/>
          <p:nvPr/>
        </p:nvSpPr>
        <p:spPr>
          <a:xfrm>
            <a:off x="4643280" y="578628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ая со стрелкой 34" descr=""/>
          <p:cNvPicPr/>
          <p:nvPr/>
        </p:nvPicPr>
        <p:blipFill>
          <a:blip r:embed="rId13"/>
          <a:stretch/>
        </p:blipFill>
        <p:spPr>
          <a:xfrm>
            <a:off x="4694400" y="4200480"/>
            <a:ext cx="834840" cy="17557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6"/>
          <p:cNvSpPr/>
          <p:nvPr/>
        </p:nvSpPr>
        <p:spPr>
          <a:xfrm>
            <a:off x="5643720" y="1357200"/>
            <a:ext cx="292896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ая со стрелкой 52" descr=""/>
          <p:cNvPicPr/>
          <p:nvPr/>
        </p:nvPicPr>
        <p:blipFill>
          <a:blip r:embed="rId14"/>
          <a:stretch/>
        </p:blipFill>
        <p:spPr>
          <a:xfrm>
            <a:off x="5121360" y="1474920"/>
            <a:ext cx="69372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428760" y="1383840"/>
            <a:ext cx="82864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Написанный тек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ылаемый для сообщ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го-нибудь кому-нибу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Умение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истема графических знаков для передачи, запечатления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Манера художе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.И.Ожегов и Н.Ю.Шве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ковый слова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Похожее изображение"/>
          <p:cNvPicPr/>
          <p:nvPr/>
        </p:nvPicPr>
        <p:blipFill>
          <a:blip r:embed="rId1"/>
          <a:stretch/>
        </p:blipFill>
        <p:spPr>
          <a:xfrm>
            <a:off x="4425840" y="1494000"/>
            <a:ext cx="4071960" cy="19443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4853160" y="3828960"/>
            <a:ext cx="3949560" cy="26323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5"/>
          <p:cNvSpPr/>
          <p:nvPr/>
        </p:nvSpPr>
        <p:spPr>
          <a:xfrm>
            <a:off x="357120" y="285840"/>
            <a:ext cx="8429760" cy="8571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о-лекс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3"/>
          <p:cNvSpPr/>
          <p:nvPr/>
        </p:nvSpPr>
        <p:spPr>
          <a:xfrm>
            <a:off x="3643200" y="428760"/>
            <a:ext cx="51436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сто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 epistole– письмо) литературное произведение, обычно в форме письма, где излагаются суждения автора по поводу определенного предм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285840" y="3429000"/>
            <a:ext cx="450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столярный 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итературных произведениях: в форме письма, переписки. Эпистолярный  жанр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столярный  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C:\Documents and Settings\Admin\Рабочий стол\письмо\457552.jpg"/>
          <p:cNvPicPr/>
          <p:nvPr/>
        </p:nvPicPr>
        <p:blipFill>
          <a:blip r:embed="rId1"/>
          <a:stretch/>
        </p:blipFill>
        <p:spPr>
          <a:xfrm>
            <a:off x="281160" y="493560"/>
            <a:ext cx="3369960" cy="2054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Admin\Рабочий стол\письмо\depositphotos_126911158-stock-photo-old-paper-letter-feather.jpg"/>
          <p:cNvPicPr/>
          <p:nvPr/>
        </p:nvPicPr>
        <p:blipFill>
          <a:blip r:embed="rId2"/>
          <a:stretch/>
        </p:blipFill>
        <p:spPr>
          <a:xfrm>
            <a:off x="4780080" y="3206880"/>
            <a:ext cx="401004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Овал 4"/>
          <p:cNvSpPr/>
          <p:nvPr/>
        </p:nvSpPr>
        <p:spPr>
          <a:xfrm>
            <a:off x="1428840" y="428760"/>
            <a:ext cx="6143400" cy="1285920"/>
          </a:xfrm>
          <a:prstGeom prst="ellipse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5000760" y="4357800"/>
            <a:ext cx="307152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"/>
          <p:cNvSpPr/>
          <p:nvPr/>
        </p:nvSpPr>
        <p:spPr>
          <a:xfrm>
            <a:off x="928800" y="435780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ра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428760" y="3357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5786280" y="335772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6643800" y="2286000"/>
            <a:ext cx="207144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1"/>
          <p:cNvSpPr/>
          <p:nvPr/>
        </p:nvSpPr>
        <p:spPr>
          <a:xfrm>
            <a:off x="3000240" y="5357880"/>
            <a:ext cx="2928960" cy="5713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в газ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428760" y="2286000"/>
            <a:ext cx="1928520" cy="57168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ая со стрелкой 65" descr=""/>
          <p:cNvPicPr/>
          <p:nvPr/>
        </p:nvPicPr>
        <p:blipFill>
          <a:blip r:embed="rId1"/>
          <a:stretch/>
        </p:blipFill>
        <p:spPr>
          <a:xfrm>
            <a:off x="4151160" y="1712880"/>
            <a:ext cx="695520" cy="39625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ая со стрелкой 69" descr=""/>
          <p:cNvPicPr/>
          <p:nvPr/>
        </p:nvPicPr>
        <p:blipFill>
          <a:blip r:embed="rId2"/>
          <a:stretch/>
        </p:blipFill>
        <p:spPr>
          <a:xfrm>
            <a:off x="4602240" y="1695600"/>
            <a:ext cx="3530520" cy="90792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ая со стрелкой 72" descr=""/>
          <p:cNvPicPr/>
          <p:nvPr/>
        </p:nvPicPr>
        <p:blipFill>
          <a:blip r:embed="rId3"/>
          <a:stretch/>
        </p:blipFill>
        <p:spPr>
          <a:xfrm>
            <a:off x="1079640" y="1695600"/>
            <a:ext cx="3247920" cy="90792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ая со стрелкой 74" descr=""/>
          <p:cNvPicPr/>
          <p:nvPr/>
        </p:nvPicPr>
        <p:blipFill>
          <a:blip r:embed="rId4"/>
          <a:stretch/>
        </p:blipFill>
        <p:spPr>
          <a:xfrm>
            <a:off x="3011400" y="1633680"/>
            <a:ext cx="1548000" cy="303516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 стрелкой 76" descr=""/>
          <p:cNvPicPr/>
          <p:nvPr/>
        </p:nvPicPr>
        <p:blipFill>
          <a:blip r:embed="rId5"/>
          <a:stretch/>
        </p:blipFill>
        <p:spPr>
          <a:xfrm>
            <a:off x="4443480" y="1706400"/>
            <a:ext cx="1334880" cy="296244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ая со стрелкой 84" descr=""/>
          <p:cNvPicPr/>
          <p:nvPr/>
        </p:nvPicPr>
        <p:blipFill>
          <a:blip r:embed="rId6"/>
          <a:stretch/>
        </p:blipFill>
        <p:spPr>
          <a:xfrm>
            <a:off x="1725480" y="1627200"/>
            <a:ext cx="2827440" cy="204300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ая со стрелкой 88" descr=""/>
          <p:cNvPicPr/>
          <p:nvPr/>
        </p:nvPicPr>
        <p:blipFill>
          <a:blip r:embed="rId7"/>
          <a:stretch/>
        </p:blipFill>
        <p:spPr>
          <a:xfrm>
            <a:off x="4449600" y="1700280"/>
            <a:ext cx="2895840" cy="196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 урока развития речи </a:t>
            </a: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Письмо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42876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ья средняя общеобразовательная школа №19  г.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1714680" y="56437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орович Алё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1000080" y="1965600"/>
            <a:ext cx="692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и особенностями эпистолярного жанра, формировать навыки написания 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5"/>
          <p:cNvSpPr/>
          <p:nvPr/>
        </p:nvSpPr>
        <p:spPr>
          <a:xfrm>
            <a:off x="285840" y="1285920"/>
            <a:ext cx="8429400" cy="50004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писании письма сохраняются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285840" y="3571920"/>
            <a:ext cx="8429400" cy="71424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85840" y="1928880"/>
            <a:ext cx="8429400" cy="15001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285840" y="200016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ьмо может иметь рукописный и напечатанный вариант. Исключения составляют письма, посвященные событиям в личной жизни. Необходимо писать от руки письма-соболезнования, письма-благодарности за приглашение на семейный праздник, письма-поздравления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285840" y="35719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писании писем следует соблюдать грамматические, орфографические, пунктуационные или стилистические н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285840" y="4429080"/>
            <a:ext cx="8429400" cy="107172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285840" y="4572000"/>
            <a:ext cx="84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временном письменном этикете не принято пользоваться корректирующими средствами. Исправлять ошибки – признак дурного 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285840" y="5643720"/>
            <a:ext cx="8429400" cy="107136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285840" y="565344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исьме следует придерживаться абзацев, если есть логически законченные части. Необходимо соблюдать расстояние между строчками и абза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57120" y="285840"/>
            <a:ext cx="8429760" cy="785880"/>
          </a:xfrm>
          <a:prstGeom prst="flowChartAlternateProcess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ми оформления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5:58:12Z</dcterms:created>
  <dc:creator>WIN7XP</dc:creator>
  <dc:description/>
  <dc:language>en-US</dc:language>
  <cp:lastModifiedBy>Admin</cp:lastModifiedBy>
  <dcterms:modified xsi:type="dcterms:W3CDTF">2018-05-05T18:42:38Z</dcterms:modified>
  <cp:revision>90</cp:revision>
  <dc:subject/>
  <dc:title>Слайд 1</dc:title>
</cp:coreProperties>
</file>